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59F-7574-4C73-AFC7-1F2DBB0C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CF9-D986-45A2-970F-F75EBAC5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9BB-9C5E-4D22-8F41-21791FB7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431-4762-4EF7-8AB3-C653697D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5F0CE-2FAF-4EE0-8255-7B1FB17B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50190-5945-4319-829F-3DB7E69C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5086D-164F-4035-8DD3-164EEAD8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17241-C391-4933-85D3-04372720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C6AEE-399F-41BF-B2DD-D43A0C87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567EA-8FE7-4629-8914-0655789B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7D0F7-9A65-41BA-AC24-A83EECE7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A11-D021-4CC0-A0FC-314775BE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A58FC-CBE8-4760-8358-1AB66810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50F56-936C-4812-A6B3-956C22CE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F5149-AF1C-4A05-854D-A0108313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3C061-23F2-4DA1-A0B3-E353E9C7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A7075-95C0-4C5C-9A7D-99835F9C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240-05CB-4A57-A3AD-3E1BB4EE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5EA-E426-4290-9F34-BDC320ED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D33-3399-4819-AC49-8B9BFFDC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182-0F16-4133-8C69-7DB2D8DA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5C5-6781-4E9F-AEC4-84C6174F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72B-90F8-4621-B9D3-375C2C2F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443-2A0A-47C3-B9B4-4994B027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40A1-83F1-4B1D-9316-E195B99242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783B-04B3-4DAF-B222-B504FA7254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Polic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Se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04000" y="3573360"/>
            <a:ext cx="1800360" cy="1500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9640" y="727200"/>
            <a:ext cx="20876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 hope you have learnt so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ome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12000" y="600120"/>
            <a:ext cx="936360" cy="772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908000" y="321300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Equip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and Cuf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a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andcuff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cket kn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o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.R.B.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epper sp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360360" cy="272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268360" y="2133720"/>
            <a:ext cx="441360" cy="460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8360" y="2205000"/>
            <a:ext cx="431640" cy="331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195640" y="2708280"/>
            <a:ext cx="576000" cy="431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3564000" y="2852640"/>
            <a:ext cx="487440" cy="766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3419640" y="3789360"/>
            <a:ext cx="57600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2124000" y="4292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2700360" y="4653000"/>
            <a:ext cx="515880" cy="623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3635280" y="5157720"/>
            <a:ext cx="257400" cy="68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468360" y="2708280"/>
            <a:ext cx="431640" cy="345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468360" y="3213000"/>
            <a:ext cx="431640" cy="316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468360" y="3789360"/>
            <a:ext cx="43164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468360" y="4292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>
            <a:off x="468360" y="486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6"/>
          <a:stretch/>
        </p:blipFill>
        <p:spPr>
          <a:xfrm>
            <a:off x="468360" y="5445000"/>
            <a:ext cx="3603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sitive                  Ba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lp us to keep sa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each us about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lp us solve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hare ides with 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2920" y="162828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lways need to be t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ake up early some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ard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812000" y="549360"/>
            <a:ext cx="505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The kinds of roles a police dog will do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.Search and rescu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including avalanche resc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.Deployment with the a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Offender squ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.Firearm detection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.Drug detection in small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Centres that do not have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Specialist do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rot="579000">
            <a:off x="5076720" y="1771200"/>
            <a:ext cx="2590920" cy="1808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20841600">
            <a:off x="5292360" y="4149720"/>
            <a:ext cx="27352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Roles some police might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2800" y="1600200"/>
            <a:ext cx="8208360" cy="4462560"/>
            <a:chOff x="442800" y="1600200"/>
            <a:chExt cx="8208360" cy="4462560"/>
          </a:xfrm>
        </p:grpSpPr>
        <p:cxnSp>
          <p:nvCxnSpPr>
            <p:cNvPr id="155" name="_s17422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536800" y="23940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8" name="_s17421"/>
            <p:cNvCxnSpPr>
              <a:stCxn id="159" idx="0"/>
              <a:endCxn id="157" idx="2"/>
            </p:cNvCxnSpPr>
            <p:nvPr/>
          </p:nvCxnSpPr>
          <p:spPr>
            <a:xfrm flipV="1">
              <a:off x="4547160" y="338436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0" name="_s17420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2664000" y="23943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7" name="_s17416"/>
            <p:cNvSpPr/>
            <p:nvPr/>
          </p:nvSpPr>
          <p:spPr>
            <a:xfrm>
              <a:off x="3315600" y="16002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Educational offic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17417"/>
            <p:cNvSpPr/>
            <p:nvPr/>
          </p:nvSpPr>
          <p:spPr>
            <a:xfrm>
              <a:off x="442800" y="42778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Traffic offic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17418"/>
            <p:cNvSpPr/>
            <p:nvPr/>
          </p:nvSpPr>
          <p:spPr>
            <a:xfrm>
              <a:off x="3315600" y="42778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Dog handl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17419"/>
            <p:cNvSpPr/>
            <p:nvPr/>
          </p:nvSpPr>
          <p:spPr>
            <a:xfrm>
              <a:off x="6188760" y="42778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Dispatch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Search and rescue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 rot="413400">
            <a:off x="6227640" y="2133720"/>
            <a:ext cx="2376720" cy="158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 rot="21128400">
            <a:off x="394920" y="2060280"/>
            <a:ext cx="25210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dogs on the g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57200" y="3924360"/>
            <a:ext cx="4038480" cy="2171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648320" y="3924360"/>
            <a:ext cx="4038480" cy="2171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 rot="21072600">
            <a:off x="1258560" y="1699920"/>
            <a:ext cx="277164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 rot="390600">
            <a:off x="5363640" y="1844640"/>
            <a:ext cx="2953080" cy="1987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219640" y="4005360"/>
            <a:ext cx="3132360" cy="209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971640" y="4076640"/>
            <a:ext cx="324000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vehic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ost police cars have markings, such as high vi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trips, flashing lights and a loud siren. Undern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bonnet, some cars also have special engines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enerate lots of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43280" y="3863880"/>
            <a:ext cx="4753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SWAT tea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03640" y="4149720"/>
            <a:ext cx="3456000" cy="23115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WAT stands for special Weapon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actics. SWAT teams and other spe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Operations units are trained to per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igh risk operation, such as host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esc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Traffic Pol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1628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ne of the major roles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Police is to make the ro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afer. Hundreds of peopl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Including children, are ki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n our roads every year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raffic crashes. Thous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f people are also bad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Injur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 rot="20830200">
            <a:off x="4571640" y="2491920"/>
            <a:ext cx="36003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21:04:42Z</dcterms:created>
  <dc:creator>5e23</dc:creator>
  <dc:description/>
  <dc:language>en-US</dc:language>
  <cp:lastModifiedBy>5e23</cp:lastModifiedBy>
  <dcterms:modified xsi:type="dcterms:W3CDTF">2011-09-08T02:40:52Z</dcterms:modified>
  <cp:revision>5</cp:revision>
  <dc:subject/>
  <dc:title>Police</dc:title>
</cp:coreProperties>
</file>